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ACF9-DC94-421F-8965-2A4130DDE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5804-BAE8-4ECB-8BC3-D19E3F5BF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66A7-5014-4A1F-B86E-07BA22734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8F39-5B41-4393-AA7E-E8A8D98C2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0E8E-22E7-4440-9CEB-B3B174B11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278D-8928-463D-BA6D-BEF4DE44A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3F5A-FE55-4D09-A0E6-6D1A9F78E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6B5F-5C93-4796-A29B-58D4D039B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29C8-F4C7-4EEC-A773-66E4F4057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638A-838A-4ABF-AF8F-FBCAD44CA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5882-1D00-49F5-A17E-797ED13A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0BA0-4453-4673-A471-872846CF4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7C1-F141-4BFB-B815-CDE2A75DDC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6A8-867A-43AC-BFB5-89E9598A0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590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LEARNING GOALS, CONSOLIDATING QUESTIONS AND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What’s the Conn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</a:t>
            </a:r>
            <a:r>
              <a:rPr b="0" lang="en-CA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ill use Learning Goals to interpret important mathematics and target the mathematical thinking we want to expose and evoke with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recognize the link between Learning Goals, Curriculum Expectations, Consolidation Questions, and Big Ideas and the reason for attending to these prior to a lesson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know the purpose of considering what a good answer would look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548D-3F18-40EA-A2A1-EC2EBCA04E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DE83-B4B3-4ECF-8B8B-0B5B65C67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scuss and decid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 a partner at your table what the goal of each action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465-7D63-4FAE-8EA0-47ABE4C664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762120" y="2286000"/>
            <a:ext cx="7924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usband buys his wife a dozen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buy a turtle from the pet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apply to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w graduate enrols in Spanish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employee asks for and accepts extra hour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son cleans your car without being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Nancy Snyder\Local Settings\Temporary Internet Files\Content.IE5\INMMNCMQ\MC900187587[1].wmf"/>
          <p:cNvPicPr/>
          <p:nvPr/>
        </p:nvPicPr>
        <p:blipFill>
          <a:blip r:embed="rId1"/>
          <a:stretch/>
        </p:blipFill>
        <p:spPr>
          <a:xfrm>
            <a:off x="4648320" y="76320"/>
            <a:ext cx="8413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 Rounded MT Bold"/>
              </a:rPr>
              <a:t>Conclu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9807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 Rounded MT Bold"/>
              </a:rPr>
              <a:t>For every action we take we have a goal in 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45D-DF80-4831-B66B-FF3F73D92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Rounded MT Bold"/>
              </a:rPr>
              <a:t>Acti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elect a group of 3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40 minutes to complete 2 of the 3 activities on your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1  Which is B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2. The Learning Goal-Consolid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3  Improving Learning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72E-A291-4C75-812C-C1244FD8FC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228600" y="619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ole Group</a:t>
            </a:r>
            <a:r>
              <a:rPr b="1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Sharing - activity decision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thoughts,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Question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was challenging about these tasks?  What did you find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is the difference between a learning goal and a curriculum expectati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en/why might you choose not to reveal the LG at the beginning of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y is it important for us to consider what a good answer will look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992-BD79-48C2-BD26-6599F92FF7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077320" cy="24382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How are you providing Learning Goals for you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y is it useful to consider the Consolidating Question(s), to be used at the end of a lesson, once you have determined the Learning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E5DF-D5B4-4C71-80B0-6DEFF1483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922320" cy="381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914400" y="3733920"/>
            <a:ext cx="73915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andana  - record a new strategy or idea I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out this brea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-its:  Post a question or a comment about 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d CQ’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2T15:36:37Z</dcterms:modified>
  <cp:revision>76</cp:revision>
  <dc:subject/>
  <dc:title>&lt;Title&gt;</dc:title>
</cp:coreProperties>
</file>